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6453-6C08-446B-824A-A9F2B7FF8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E4A0-36D8-4CFE-8BE3-9E0BA6F2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96E4-E02D-4A8C-84B6-EACD8C4E7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3ADE-84B7-4C4A-9A6F-02D41AD18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7E6B-C210-41BA-909B-431FA8CC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FC39-E24D-4492-9465-32469116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CED6-119F-4559-A568-48233EA7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8819-BE61-4C59-8B21-8524B59E4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F50D-A7D0-439F-8DE5-D8BFAE89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9B48-5A13-46D9-8BE2-8F0EC3ED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4FA0-FDC4-4C75-AB32-8F236C6C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F5A6-4B96-4936-AFF7-C80AAA6D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9D95-E3B1-407F-83B9-E0060B543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600"/>
            </a:b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Институт информатики инноваций и бизнес систем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Предмет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«Технологии Интернет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Руководитель: Сачко Максим Анатольевич, старший преподавате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7A89-1F45-46EF-82C9-6E0200AABB3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Основную роль в системе электронной почты играют программы трех типов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транспортные агенты (MTA - Mail Transport Agent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агенты доставки (MDA - Mail Delivery Agent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ользовательские агенты (MUA - Mail User Agen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5B15-9DD2-4593-83E3-368DE771DCF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26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анализ и преобразование адресов и заголовков почтовых сообщени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26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опрос DNS на предмет имени и адреса почтового сервера адресата сообщения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26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определение агента доставки для каждого сообщения и передача сообщения выбранному агенту доставки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26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управление очередью сообщений, отложенный и повторный вызов агентов доставки в случае невозможности немедленной доставки сообщения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26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возврат сообщений, которые по каким-либо причинам невозможно доставить по назначению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Функции транспортного аг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B446-3424-41DA-A39C-9D4A0D501F4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разбор списков рассылки, пседонимов, переадресации (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форвардинг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реобразование адресов в формат другой почтовой системы, если MTA функционирует как шлюз между двумя почтовыми системами (например, между Internet Mail и Sprint Mail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реобразование имени почтового домена отправителя (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маскарад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установка служебных заголовков в сообщении, отражающих его маршрут и процесс обработ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Анализ и преобразование адрес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2A14-EEAE-4B40-9B73-F46CA1A6839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ff"/>
                </a:solidFill>
                <a:latin typeface="Tahoma"/>
              </a:rPr>
              <a:t>local</a:t>
            </a: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 - письмо направлено на почтовый ящик, находящийся на этом же компьютере; доставка производится, например, добавлением содержимого сообщения в определенный файл (</a:t>
            </a:r>
            <a:r>
              <a:rPr b="0" i="1" lang="ru-RU" sz="2500" spc="-1" strike="noStrike">
                <a:solidFill>
                  <a:srgbClr val="3333ff"/>
                </a:solidFill>
                <a:latin typeface="Tahoma"/>
              </a:rPr>
              <a:t>в Unix это файл /var/mail/почтовый_ящик</a:t>
            </a: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)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ff"/>
                </a:solidFill>
                <a:latin typeface="Tahoma"/>
              </a:rPr>
              <a:t>SMTP</a:t>
            </a: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 - письмо направлено на почтовый ящик в другом почтовом домене; доставка производится путем соединения с транспортным агентом на удаленном сервере с помощью протокола SMTP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ff"/>
                </a:solidFill>
                <a:latin typeface="Tahoma"/>
              </a:rPr>
              <a:t>prog</a:t>
            </a: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 - письмо должно быть обработано какой-либо программой; доставка производится вызовом этой программы, на вход которой подается содержимое письм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Агенты доста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0807-E375-4790-B0E7-39BE7E022ED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олучение сообщений с почтового сервер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резентация, хранение, удаление и каталогизирование почтовых сообщен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оздание нового сообщения и передача его транспортному агенту для дальнейшей обработки и достав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Функции пользовательского аг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14CD-2AC1-4D1F-80F1-0AA57F5B76B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ОС Unix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транспортным агентом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является программа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sendmail,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ставшая де-факто стандартом MTA. Кроме того, в программу sendmail входит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агент доставки SMT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Локальный агент доставки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программа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mail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с ключом "-d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 качестве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MUA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могут использоваться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mail, pine,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различные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MailTool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под X-Windows и другие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 качестве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POP-сервера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может быть использована программа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qpop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2. Почтовые агенты в различных 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F822-FC5C-4C21-A6D4-0F072DE8CE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Почтовое сообщение состоит из заголовков и тела. В заголовках указываются адреса отправителя и получателя (получателей) и другая служебная информац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Тело представляет собой 7-битный текст. Спецификация MIME позволяет пересылать в теле сообщения двоичные данные и создавать сложные сообщения, состоящие из нескольких частей с данными различных типов. При пересылке сообщения через SMTP создается конверт, состоящий из адресов отправителя и получателя, передаваемых в SMTP-сеанс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Структура email-сооб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CA9D-87B9-401E-85F0-D61E5969EC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From: ivanov@a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Reply-To: real_ivanov@a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To: sidorov@vvsu.ru, "Petr Petrov" &lt;petrov@vvsu.ru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с: "Jonh Smith" &lt;john@smith.a.com&gt;, &lt;sidorenko@c.ru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Bcc: "Fox Mulder" &lt;mulder@fbi.gov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Subject: Happy New Yea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Date: Sat, 15 Jan 2000 17:25:32 +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Message-ID: &lt;3.0.6.32.200623.007badf0@mail.a.ru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Received: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Заголовки почтового сооб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95A5-72F1-4631-9492-7DFE9C26212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MI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(Multipurpose Internet Mail Extensions)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спецификации, определяющие дополнения в формате почтовых сообщений дл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ересылки восьмибитных текстов и полностью двоичных данны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оддержки сложных сообщений, состоящих из нескольких разделов (возможно, содержащих данные разных типов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Формирование и разбор сообщений в соответствии со спецификациями MIME производится пользовательскими почтовыми аген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M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A554-6655-4497-A2B8-4F6CC050D5B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HELO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host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MAIL FROM: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email_адрес_от_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RCPT TO: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email_адрес_к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VRFY</a:t>
            </a:r>
            <a:r>
              <a:rPr b="0" i="1" lang="ru-RU" sz="1800" spc="-1" strike="noStrike" baseline="-257000">
                <a:solidFill>
                  <a:srgbClr val="fafbfc"/>
                </a:solidFill>
                <a:latin typeface="Arial"/>
              </a:rPr>
              <a:t> email_адр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EXPN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email_add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R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Q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Основные команды протокола SM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79840" y="331488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ru-RU" sz="41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4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Электронная поч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BF8E-3C3E-4A90-8578-8C2CA99A018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USER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 имя_пользова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PASS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 пар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S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LIST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RETR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" spc="-1" strike="noStrike">
                <a:solidFill>
                  <a:srgbClr val="3333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DELE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TOP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n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R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N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Q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Основные команды протокола POP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79840" y="331488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04AA-F9CB-4B6D-80F8-AC10A72AF95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Программа sendmail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это транспортный почтовый агент (MTA) плюс агент доставки SMTP. Sendmail фактически является стандартным MTA для Unix и поставляется вместе с операционной систе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Программа send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79840" y="331488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85E5-07BA-4697-B993-8DC00165A01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Sendmail состоит из программы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/usr/lib/sendmail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конфигурационного файла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/etc/mail/sendmail.cf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файла псевдонимов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/etc/mail/aliase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и других вспомогательных файлов, а также документов справочника man. Программа использует каталоги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/etc/mail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для хранения конфигурационного и вспомогательных файлов и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/var/spool/mqueu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для очереди сообщений. Путь к каталогу очереди сообщений может варьироваться от системы к сист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79840" y="331488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470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Чем отличаются почтовые агенты: транспортный, доставки, пользовательски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В чем разница между протоколами POP и SMT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В чем состоят функции почтового сервер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Назовите составные части сложного почтового сообщения (текст с двумя файлами-приложениями)? Укажите ключевые для понимания формата сообщения заголовки и их зна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Что такое MI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Опишите функции программы sendmail. Обоснуйте необходимость наличия сложного конфигурационного файла у этой програм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Сравните sendmail с другими транспортными аген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Опишите, какие возможности имеет sendmail для ограничения (фильтрации) входящих и исходящих сообщений; какие критерии при этом использу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Что такое маскарадинг? Приведите ситуации, в которых он может понадоби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Вопросы для самопровер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. Хант. Персональные компьютеры в сетях TCP/IP: Руководство администратора сети/ Пер. с англ. – СПб.: ЗАО "ЭлектроникаБизнесИнформатика", Киев: "BHV",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2003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UNIX для системных администраторов: Энциклопедия пользователя/ Пер.с англ. – Киев: ДиаСофт,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.Costales, E.Alman. Sendmail. – O’Reily and Associates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5122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ff"/>
                </a:solidFill>
                <a:latin typeface="Tahoma"/>
              </a:rPr>
              <a:t>Содержание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520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1) Организация службы электронной почты в Интер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2) Почтовые агенты в различных 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3) Структура email-сооб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4) Основные команды протокола SMTP</a:t>
            </a: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и </a:t>
            </a: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P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5) Программа sendmail: ее функции и составные ч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A77B-E902-4059-ADDE-67C0D854232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Служба электронной почты состоит из сети почтовых серверов, обслуживающих определенные доменные имена D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На серверах сортируются, обрабатываются и хранятся в ожидании получателя почтовые сооб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Серверы пересылают сообщения между собой через Интернет по протоколу SMT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Конечные пользователи работают либо непосредственно на серверах, либо чаще всего - за отдельными компьюте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Основная концеп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3893-3BEE-4E48-8C3D-87F6632BE3A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Работа электронной почты организуется путем взаимодействия агентов трех типов: транспортных, пользовательских и агентов доста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ahoma"/>
              </a:rPr>
              <a:t>Транспортные агенты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 выполняют роль центров по обработке и маршрутизации пис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ahoma"/>
              </a:rPr>
              <a:t>Агенты доставки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 работают в связке с траспортными агентами и осуществляют доставку и пересылку сообщений тем или иным специфическим способ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ahoma"/>
              </a:rPr>
              <a:t>Пользовательские агенты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 взаимодействуют непосредственно с челове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81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ahoma"/>
              </a:rPr>
              <a:t>1</a:t>
            </a:r>
            <a:r>
              <a:rPr b="1" lang="ru-RU" sz="2400" spc="-1" strike="noStrike">
                <a:solidFill>
                  <a:srgbClr val="3333ff"/>
                </a:solidFill>
                <a:latin typeface="Tahoma"/>
              </a:rPr>
              <a:t>. Организация службы электронной почты в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F072-BA0F-4BE9-BB63-9AA4EE2EFD3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Транспортный агент</a:t>
            </a: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 (MTA)</a:t>
            </a: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- программа, осуществляющая маршрутизацию почтовых сообщений, то есть анализ и преобразование заголовков письма и выбор и вызов нужного агента доставк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Агент доставки</a:t>
            </a: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 (MDA)</a:t>
            </a: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- программа, осуществляющая доставку или пересылку почтового сообщения тем или иным специфическим способом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Пользовательский агент</a:t>
            </a: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 (MUA)</a:t>
            </a: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- программа, предоставляющая конечному пользователю интерфейс для работы с почтовыми сообщениям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Ключевые по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0866-15D9-493C-8990-3A47C24390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Почтовый домен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- доменное имя, находящееся в правой части адреса электронной поч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Почтовый ящик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- левая часть адреса электронной почты, а также совокупность методов доставки и хранения почтовых сообщений внутри данного почтового доме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Локальный адрес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- адрес электронной почты, находящийся в одном из почтовых доменов, обслуживаемых данным транспортным аген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Ключевые по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61E4-E243-4083-B1A4-26B11AC335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SMTP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- сетевой протокол прикладного уровня, предназначенный для пересылки почтового сообщения транспортному агент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POP-3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- сетевой протокол прикладного уровня, предназначенный для удаленного доступа пользовательского агента к почтовому ящи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IMAP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- сетевой протокол прикладного уровня, предназначенный для удаленного доступа пользовательского агента к почтовому ящику; по сравнению с POP-3 предлагает расширенный набор услуг для конечного пользова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Протоко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7AAF-044C-4BBD-9E7E-5A1EB9681D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8920" y="94464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Организация и функционирование службы электронной поч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63640" y="1052640"/>
            <a:ext cx="543744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27:56Z</dcterms:modified>
  <cp:revision>238</cp:revision>
  <dc:subject/>
  <dc:title>Lecture Template </dc:title>
</cp:coreProperties>
</file>